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8612-0530-4DE7-9E88-109733F73077}" type="slidenum">
              <a:rPr b="1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et me introduce PC admin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i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can manage all LDK system series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following PC Spec. is required to install PC admi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lease just refer to the requirements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supports 4 kinds of connection type as shown in the pictur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S-232C, Analog modem, ISDN, LAN. 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page shows how to install PC admi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installation is not difficul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ecute setup.exe and then just follow the indication as described in the page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page shows the PC admin main windo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is composed of main menu, basic system information field, admin menu, admin window, messag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 will explain more details from next page. 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et’s see basic system information field first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asic system information shows the following information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stem field shows a kind of LDK system mod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Move to next page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4680" y="6529320"/>
            <a:ext cx="118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5EAB-23D2-42FC-AA51-E7C487725A2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9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080" y="1476360"/>
            <a:ext cx="603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Offline PCADMIN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25926" t="29468" r="23988" b="30472"/>
          <a:stretch/>
        </p:blipFill>
        <p:spPr>
          <a:xfrm>
            <a:off x="3141720" y="4503600"/>
            <a:ext cx="2863800" cy="78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7640" y="1159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1. Cont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1628640"/>
            <a:ext cx="429588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체"/>
              </a:rPr>
              <a:t>PC Requiremen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체"/>
              </a:rPr>
              <a:t>Version Compatibility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체"/>
              </a:rPr>
              <a:t>S/W Installa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체"/>
              </a:rPr>
              <a:t>Program Window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체"/>
              </a:rPr>
              <a:t>Procedur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체"/>
              </a:rPr>
              <a:t>Menu Opera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체"/>
              </a:rPr>
              <a:t>Demo &amp; Practic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0840" y="1522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1. 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98640" y="11592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2. 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765000"/>
            <a:ext cx="8483400" cy="32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Admin(Off-Lin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Is a software of ‘Administration Program’ for ipLDK system using “*.usr” file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downloaded by DB Up/Download Program </a:t>
            </a:r>
            <a:r>
              <a:rPr b="1" lang="ko-KR" sz="1600" spc="-1" strike="noStrike" u="sng">
                <a:solidFill>
                  <a:srgbClr val="ff3300"/>
                </a:solidFill>
                <a:uFillTx/>
                <a:latin typeface="Arial"/>
                <a:ea typeface="굴림체"/>
              </a:rPr>
              <a:t>indirectly</a:t>
            </a: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Be used without the connection between ipLDK system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hange the value of database in “*.usr” file and Upload the database with DB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Up/Download Progra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in the LDK-Admin packag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upports powerful searching engine for PGM cod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1560" y="15228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2. PC Spec. Requirem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107280" y="11592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3. PC Requirem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8760" y="911160"/>
            <a:ext cx="757224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tium III CPU 550Mh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PU or higher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mmende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least 64MB RAM (128MB or more RAM is recommende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um 3-button Mouse/ VGA Monito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S-Window 98 at lea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DD(20MB at leas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280" y="15228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3. Connection Typ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98640" y="11592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4. Version Compatibilit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765000"/>
            <a:ext cx="8458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PC AdminPro isn’t compatible with every MP version.  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So, we should use the PCAdminPro version compatible with MP Version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hen you open the user file(*.usr) and the user file is the one of old version, we will see 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the </a:t>
            </a:r>
            <a:r>
              <a:rPr b="1" lang="ko-KR" sz="1500" spc="-1" strike="noStrike">
                <a:solidFill>
                  <a:srgbClr val="ff0000"/>
                </a:solidFill>
                <a:latin typeface="Arial"/>
                <a:ea typeface="굴림체"/>
              </a:rPr>
              <a:t>warning message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. And, we </a:t>
            </a:r>
            <a:r>
              <a:rPr b="1" lang="ko-KR" sz="1500" spc="-1" strike="noStrike">
                <a:solidFill>
                  <a:srgbClr val="ff0000"/>
                </a:solidFill>
                <a:latin typeface="Arial"/>
                <a:ea typeface="굴림체"/>
              </a:rPr>
              <a:t>cannot update the user file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 and some value of admin field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may be incorrect.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Regardless of installation the old PC AdminPro version, we can install new PC AdminPro  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version. If we don’t want to use old PC AdminPro version, please delete the version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before installing new PC AdminPro version. 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1200" y="15228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4. S/W Install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57240" y="1159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5. S/W Install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28760" y="765000"/>
            <a:ext cx="7770240" cy="5567400"/>
            <a:chOff x="428760" y="765000"/>
            <a:chExt cx="7770240" cy="5567400"/>
          </a:xfrm>
        </p:grpSpPr>
        <p:sp>
          <p:nvSpPr>
            <p:cNvPr id="68" name=""/>
            <p:cNvSpPr/>
            <p:nvPr/>
          </p:nvSpPr>
          <p:spPr>
            <a:xfrm>
              <a:off x="988920" y="1341360"/>
              <a:ext cx="199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 Execute “SETUP.EXE”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. Click [Next] button.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90360" y="3984480"/>
              <a:ext cx="273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Change Directory to be installed.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. Click [Next] button.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63400" y="1341360"/>
              <a:ext cx="313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. Enter User Name and Company Name,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 Click [Next] button.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70960" y="3984480"/>
              <a:ext cx="186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. Click [Finish] button.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8760" y="765000"/>
              <a:ext cx="44481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C AdminPro S/W Installation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1258920" y="1781280"/>
              <a:ext cx="239868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700360" y="3357720"/>
              <a:ext cx="50328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5340240" y="1747800"/>
              <a:ext cx="2471760" cy="18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818400" y="3381480"/>
              <a:ext cx="50328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1332000" y="4543560"/>
              <a:ext cx="2255760" cy="17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5364000" y="4470480"/>
              <a:ext cx="240048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700360" y="6021360"/>
              <a:ext cx="50328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18400" y="6045120"/>
              <a:ext cx="50328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3040" y="11592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Proced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320040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037760" y="3809880"/>
            <a:ext cx="15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database file(*.usr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1755720" y="2133720"/>
            <a:ext cx="209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With DB-Updown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바탕"/>
              </a:rPr>
              <a:t>(Modem/LAN/Serial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0" y="2443320"/>
            <a:ext cx="1798560" cy="1514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410080" y="320040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598800" y="3962520"/>
            <a:ext cx="2215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3300"/>
                </a:solidFill>
                <a:latin typeface="Arial"/>
              </a:rPr>
              <a:t>PC with PCAdminPro software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3657600"/>
            <a:ext cx="1067040" cy="228600"/>
          </a:xfrm>
          <a:prstGeom prst="leftArrow">
            <a:avLst>
              <a:gd name="adj1" fmla="val 50000"/>
              <a:gd name="adj2" fmla="val 1166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365760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136240" y="289548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Downloa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135160" y="3962520"/>
            <a:ext cx="219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Uploa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(with updated database fil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95280" y="2852640"/>
            <a:ext cx="1584360" cy="1563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03640" y="31845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굴림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057640" y="318456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굴림"/>
              </a:rPr>
              <a:t>(2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5057640" y="363528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굴림"/>
              </a:rPr>
              <a:t>(3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3193920" y="3625920"/>
            <a:ext cx="4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굴림"/>
              </a:rPr>
              <a:t>(4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920" y="115920"/>
            <a:ext cx="23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Menu Ope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981000"/>
            <a:ext cx="504036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Open DB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Open database file from ‘Load File’ Window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3787920"/>
            <a:ext cx="37432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Save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To save information to file, click ‘Save File’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button and save fil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2597040" cy="2082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32360" y="4005360"/>
            <a:ext cx="287964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765000"/>
            <a:ext cx="82090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View D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To Read data Click ‘Refresh’ button. Information is displayed in detail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 Update D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To update DB, change attribute value and click ‘Update’ button. DB is saved to memor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106920" y="115920"/>
            <a:ext cx="23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Menu Ope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84360" y="2098800"/>
            <a:ext cx="5327640" cy="4138560"/>
            <a:chOff x="684360" y="2098800"/>
            <a:chExt cx="5327640" cy="413856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900000" y="2098800"/>
              <a:ext cx="4824360" cy="40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84360" y="5950080"/>
              <a:ext cx="532764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195640" y="2924280"/>
            <a:ext cx="50472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2924280"/>
            <a:ext cx="50472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5:33:48Z</dcterms:created>
  <dc:creator>이상춘</dc:creator>
  <dc:description/>
  <dc:language>en-US</dc:language>
  <cp:lastModifiedBy>ldk1248</cp:lastModifiedBy>
  <dcterms:modified xsi:type="dcterms:W3CDTF">2006-11-23T08:20:53Z</dcterms:modified>
  <cp:revision>122</cp:revision>
  <dc:subject/>
  <dc:title>PowerPoint 프레젠테이션</dc:title>
</cp:coreProperties>
</file>